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4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558-9F4D-48E3-AFEB-088D7D29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3A4-61ED-4D5B-A883-39E9DBAD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A8B3F-A2E4-45D7-810A-7C58666D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968FE-0A18-4255-B9C1-17EDA262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57CF6-2950-4AD0-A813-FA3602E8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00EC7-168A-4818-BB0F-9CD73BE0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D8B90-A6F1-4E6A-B13A-62A41D43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A0B09-7714-40D4-A30D-1D3C4315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9B413-18A0-4487-B72D-D04B5620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2787E-1E85-435E-B1B3-E19E7A29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5464F-4E34-4146-A7F9-9B609534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09CFE-E00B-455C-A41E-6A212B91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E3F-997A-477A-9A96-69B9FA25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692BE-84C0-4913-A323-82B7AEF1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86385-196D-4FCF-AD77-8FBB7A3D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10D71-A278-4428-BB86-1ABE6492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FDC2E-13FF-40A3-A9C1-315CE313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7C6C9-18AE-4C73-ACE4-2E20742D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D2D6E-8D1A-44C9-97CF-B429736F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074FE-D31F-4069-BA01-BACF5223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212AD-3729-4023-ABE9-C1294AA3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D54DC-6155-493C-BF5E-4ADDCA57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DA0AE-0B32-4CAA-92EA-07FE9B00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30F-DF43-46D7-89A3-6B1B8945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BE971-743E-4E21-9C03-8AF21C1D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80D19-12B4-4C55-9F95-FDB91F72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CE8D2-20B5-4665-AD3A-16F5E744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B47CE-8804-43E3-8606-2385B5FC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CA491-2361-4EA7-86EF-B9C6ABF2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2FF83-5265-4B37-B9E3-A4045DB1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B0C97-1C13-4A3F-B913-DA2E2726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63AEF-7B9A-4C58-B5B9-81D2CC86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102C0-CB63-4E15-BAB0-7486C069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522A5-2CCB-4F63-8ED1-BB81AC4A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9E96-F6CF-4C22-AE64-64B1E541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F7F9C-D3BC-48AB-BA57-411D09E9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F651B-78AF-4395-A4E5-2D2C43E1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3106B-CD0B-4672-B8C1-4054C42C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BA4B3-9873-4C30-B3CD-6547E8F1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6751E-CB43-4BA7-9DC7-71E2C3CC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283B2-C668-4A67-B43B-5A04A221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4723C-E4F7-4EF4-8F8C-BEC84C1F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5D117-E713-412C-920A-954AA91A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FAEDB-C1BB-47AA-BA48-CA1EF851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EFA3E-BF81-4014-8340-7829EA12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189D-3019-4649-8973-1109EBF3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921F6-3A2F-4A9F-9806-AD59E89B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EE6D2-B4A8-41E2-B3CB-97D9A95B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3B3D2-A3FB-4A7B-BCC2-DAB66733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CEF45-EAA2-4C3A-B0A6-1C488B2A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B6B98-8D36-45AB-8C9D-C40ED105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3B50-C572-45EA-B225-C5C30B6F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F7B4-E6C0-419E-B812-AA91C07C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8FB3-D09E-4FE2-A744-996CA95F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F211-F93C-4178-AAB3-45B4172B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A41D-78C1-48DB-A785-86D1DC72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9C6-8EF0-42CC-81D7-41DF6707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BA78-A99C-479C-8BC2-B6C6A0E6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9485-B16A-43B4-8CEC-700E2CF9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5F48-806A-4E5B-A4EB-81AE605B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A4F1-D6FE-4BDE-B455-2AAC843D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436E-A3BA-4D1A-9083-3957B547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C967E-DC29-4F8F-8791-94F698B3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C512-5967-4BC3-9CBC-3DD297AB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1238-2389-425E-AC94-2C06ED15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002B-F6BB-482B-945C-684506BB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08FED-7364-487E-A367-3602A7B8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32AF-E43C-4F35-A99B-53EBDEE1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C2AA6-1DEB-496E-91F4-CB1533F7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5077C-58CA-4FEB-AEC8-920C7B84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7AF0A-74EE-4A24-AE5E-A126AAE7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3BE85-D393-4BED-BE9C-4FFAC9A7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6F5A0-289D-4B6A-AEFD-B28E642A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208B1-4128-479D-B49C-F5A10930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E7C32-78B2-4F14-899D-27D732AE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8DEC6-F809-46CE-B3C9-981B5BEB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08E26-BA38-40B6-B2C8-AB3B5B4D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1DC1D-D714-422C-86A7-0106E9B8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9EF-B5DD-4860-AFB7-348B01A9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0FA7A-9599-4E0B-83A3-E9409862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99E74-DE9E-473E-B690-9F808127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BEACF-3650-4F4F-8F9F-E418ED55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872D7-8B25-4BCC-A563-2EC87BB5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32F89-1492-4554-B3C3-68E5A5FF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DD901-A2C1-441E-AB5B-C8BB9414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9C8C0-A43A-4AD7-BBFE-41C6FD88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B797B-B3A7-4DD0-85DD-68862AD5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44693-04FC-4518-A5E3-7CA3A4A2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AE85F-71DD-452F-99A9-63280024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6D8-5DD7-4027-B5DD-0C21A0B0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9D2C1-F8A0-439A-9C5E-3AAA1F96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881EE-028F-4953-8430-45C8D0CB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A034A-4EC9-4FAF-9317-525EC311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1D476-D85F-497B-89D4-93EECC09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E39A7-BBF9-4D9E-8B1F-80855C8B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8AFE7-406F-4F2E-A93C-0CC28233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14725-F1DB-46A3-9EE3-604EF077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B329D-0738-4C22-9E59-225F9589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D0C0A-2A04-49B4-BCB8-508A3090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76101-E2FF-49DA-9FCD-A629BF2E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FDB7-FAD6-4E3C-9D79-4AA9567B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CE0D1-16CD-4E2B-9D6E-8ECFD0F3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DF699-C94C-41F7-8E07-B19EAC7C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74CF3-4FFD-43E2-B7B6-79E9E930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C5041-365B-4E04-BB9F-F78D2035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715D3-C8D4-4988-99EE-DFA7F5BB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C6FAB-C975-496B-87AC-DBC662C0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1A240-DE90-4258-9B10-15F057EE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B759B-C9E3-4759-B1E2-C3BA1FC9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DD698-EB0B-4F82-8743-30767446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6545B-C68A-4904-8847-055A206D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5FE-1277-4393-8701-3E22FE22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F7A82-CDE5-45CF-B523-137E9058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FCFE8-3D64-473F-A949-34449A02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30FC4-E49A-4459-94E2-7B721553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4FB48-5E46-40F8-A81F-9E92E50D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0D280-B66E-48CC-A95F-2F1AD9DC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A9983-2426-4232-AD65-AEEAEFF1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990A8-FFFF-4662-B704-EBC30F47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DD8F7-870D-4175-9BD8-C14C1759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6D8D2-437F-44FF-AA3F-B5F20781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FB043-0C22-4016-9C1C-9E085560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AE4-B2D3-4509-9F78-9C494BDD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6DADF-3292-4C3D-A141-6B22B772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84A5D-E11D-458F-94E3-450C8308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C5722-80C4-457B-A234-8A3AF8D8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BD979-297E-4791-8A4F-3628F91F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01121-AA62-491D-BDEF-E2BF966E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1DD9E-D142-4A8E-AB8C-3B74AEC9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57228-9CDA-48E4-8D90-B990CDD1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80E11-DEC6-4B69-BF85-87201B21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67803-A3DA-4E71-8C28-82CBA907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2CBC7-1CE9-4C43-BD64-A51D7F44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DF9-2682-40C6-881B-0EF32694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6DA1E-7334-46B5-B4CC-84F4CD1B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392E1-FB26-44F3-AB10-F4F552DA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47305-CF7E-4BB9-A079-F0476CE2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A0DAD-B808-4E6A-96A1-5D6CAC41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7414C-7088-44F2-B2EC-B33FBBA7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84DD7-23FB-47E4-8EA8-786379A6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02622-1B27-4538-8B62-3F239D34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89A6C-53F1-4D4E-B106-D9EBB13F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7774C-60CD-4784-A67A-55D7A6B1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2599D-C719-4DBF-A6A2-6268034B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4ABE-5AEE-43E4-93A6-DAA5364581F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90C8-2E3A-49A6-BAF8-808C37C42A7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6A92-6A69-446B-B9B0-03026BF1F9F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52BA-EE1C-498D-A640-75665A6AE93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28BB-6651-4C6F-B413-F8FB66F3A90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DC34-93E3-4F48-8147-D0FE483B6F6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8CE1-9623-4C42-8692-6873E41BDFB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0B16-670E-4FC6-A7D0-98E008D80D8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E581-1242-41F4-9B4F-E3E2931F056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13DE-10F8-4F00-B699-B7BA79BD42D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C5B8-E030-49ED-9929-8A787252D95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686D-A283-4524-AFC8-8711852B2EB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  <a:ea typeface="Arial"/>
              </a:rPr>
              <a:t>Ra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Arial"/>
                <a:ea typeface="Arial"/>
              </a:rPr>
              <a:t>Energ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Box 3"/>
          <p:cNvSpPr/>
          <p:nvPr/>
        </p:nvSpPr>
        <p:spPr>
          <a:xfrm>
            <a:off x="-151560" y="1676520"/>
            <a:ext cx="98474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razumijevamo pod radom u fizici, a što u svakidašnjem život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a je osnovna mjerna jedinica za ra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i je znak za rad kao fizikalnu veličin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Marko I Luka guraju dvije jednake kutije s jednog kraja prostori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na drugi, prevaljujući pritom jednak put. Ako Luka djeluje tri pu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većom silom, usporedi radove koje oni obave. Objasni svoj odgov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Slika 1" descr=""/>
          <p:cNvPicPr/>
          <p:nvPr/>
        </p:nvPicPr>
        <p:blipFill>
          <a:blip r:embed="rId1"/>
          <a:stretch/>
        </p:blipFill>
        <p:spPr>
          <a:xfrm>
            <a:off x="228600" y="1050840"/>
            <a:ext cx="273528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4"/>
          <p:cNvSpPr/>
          <p:nvPr/>
        </p:nvSpPr>
        <p:spPr>
          <a:xfrm>
            <a:off x="380880" y="1447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sve smatramo radom u svakidašnjem živo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da i kako ti obavljaš r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6" descr=""/>
          <p:cNvPicPr/>
          <p:nvPr/>
        </p:nvPicPr>
        <p:blipFill>
          <a:blip r:embed="rId1"/>
          <a:stretch/>
        </p:blipFill>
        <p:spPr>
          <a:xfrm>
            <a:off x="3352680" y="3106800"/>
            <a:ext cx="3276720" cy="28274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289548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3"/>
          <p:cNvSpPr/>
          <p:nvPr/>
        </p:nvSpPr>
        <p:spPr>
          <a:xfrm>
            <a:off x="644760" y="914400"/>
            <a:ext cx="59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bavlja li dječ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rk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u oba slučaja r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12"/>
          <p:cNvGrpSpPr/>
          <p:nvPr/>
        </p:nvGrpSpPr>
        <p:grpSpPr>
          <a:xfrm>
            <a:off x="714240" y="2571840"/>
            <a:ext cx="6831720" cy="3460320"/>
            <a:chOff x="714240" y="2571840"/>
            <a:chExt cx="6831720" cy="3460320"/>
          </a:xfrm>
        </p:grpSpPr>
        <p:pic>
          <p:nvPicPr>
            <p:cNvPr id="510" name="Picture 2" descr=""/>
            <p:cNvPicPr/>
            <p:nvPr/>
          </p:nvPicPr>
          <p:blipFill>
            <a:blip r:embed="rId1"/>
            <a:stretch/>
          </p:blipFill>
          <p:spPr>
            <a:xfrm>
              <a:off x="714240" y="2571840"/>
              <a:ext cx="2563920" cy="29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Box 11"/>
            <p:cNvSpPr/>
            <p:nvPr/>
          </p:nvSpPr>
          <p:spPr>
            <a:xfrm>
              <a:off x="962640" y="5572440"/>
              <a:ext cx="658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ko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aca loptu     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ko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ra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i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2" name="Picture 2" descr=""/>
          <p:cNvPicPr/>
          <p:nvPr/>
        </p:nvPicPr>
        <p:blipFill>
          <a:blip r:embed="rId2"/>
          <a:stretch/>
        </p:blipFill>
        <p:spPr>
          <a:xfrm>
            <a:off x="4724280" y="3432240"/>
            <a:ext cx="2706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77933c"/>
                </a:solidFill>
                <a:latin typeface="Arial"/>
                <a:ea typeface="Arial"/>
              </a:rPr>
              <a:t>Rad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4"/>
          <p:cNvSpPr/>
          <p:nvPr/>
        </p:nvSpPr>
        <p:spPr>
          <a:xfrm>
            <a:off x="609480" y="1523880"/>
            <a:ext cx="82296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ada sila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jeluje na tijelo uzduž puta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ažemo da sila obavlja rad na tom tije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nak za ra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veslanje"/>
          <p:cNvPicPr/>
          <p:nvPr/>
        </p:nvPicPr>
        <p:blipFill>
          <a:blip r:embed="rId1"/>
          <a:stretch/>
        </p:blipFill>
        <p:spPr>
          <a:xfrm>
            <a:off x="3429000" y="3429000"/>
            <a:ext cx="56008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Box 4"/>
          <p:cNvSpPr/>
          <p:nvPr/>
        </p:nvSpPr>
        <p:spPr>
          <a:xfrm>
            <a:off x="0" y="144792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isnost rada o s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7"/>
          <p:cNvSpPr/>
          <p:nvPr/>
        </p:nvSpPr>
        <p:spPr>
          <a:xfrm>
            <a:off x="4952880" y="312408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d je razmjeran si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714840" cy="2362320"/>
          </a:xfrm>
          <a:prstGeom prst="rect">
            <a:avLst/>
          </a:prstGeom>
          <a:ln w="0">
            <a:noFill/>
          </a:ln>
        </p:spPr>
      </p:pic>
      <p:sp>
        <p:nvSpPr>
          <p:cNvPr id="519" name="TextBox 7"/>
          <p:cNvSpPr/>
          <p:nvPr/>
        </p:nvSpPr>
        <p:spPr>
          <a:xfrm>
            <a:off x="586728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Slika 2" descr=""/>
          <p:cNvPicPr/>
          <p:nvPr/>
        </p:nvPicPr>
        <p:blipFill>
          <a:blip r:embed="rId2"/>
          <a:stretch/>
        </p:blipFill>
        <p:spPr>
          <a:xfrm>
            <a:off x="152280" y="911160"/>
            <a:ext cx="1328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4"/>
          <p:cNvSpPr/>
          <p:nvPr/>
        </p:nvSpPr>
        <p:spPr>
          <a:xfrm>
            <a:off x="0" y="144792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isnost rada o duljini p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7"/>
          <p:cNvSpPr/>
          <p:nvPr/>
        </p:nvSpPr>
        <p:spPr>
          <a:xfrm>
            <a:off x="4648320" y="289548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d je razmjeran duljini pu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7"/>
          <p:cNvSpPr/>
          <p:nvPr/>
        </p:nvSpPr>
        <p:spPr>
          <a:xfrm>
            <a:off x="5943600" y="3657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765600" cy="2157120"/>
          </a:xfrm>
          <a:prstGeom prst="rect">
            <a:avLst/>
          </a:prstGeom>
          <a:ln w="0">
            <a:noFill/>
          </a:ln>
        </p:spPr>
      </p:pic>
      <p:sp>
        <p:nvSpPr>
          <p:cNvPr id="525" name="TextBox 7"/>
          <p:cNvSpPr/>
          <p:nvPr/>
        </p:nvSpPr>
        <p:spPr>
          <a:xfrm>
            <a:off x="304920" y="5105520"/>
            <a:ext cx="8305560" cy="1008360"/>
          </a:xfrm>
          <a:prstGeom prst="rect">
            <a:avLst/>
          </a:prstGeom>
          <a:solidFill>
            <a:srgbClr val="ebf1de"/>
          </a:solidFill>
          <a:ln w="93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 je fizikalna veličina; zna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rna jedinica metar (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Slika 7" descr=""/>
          <p:cNvPicPr/>
          <p:nvPr/>
        </p:nvPicPr>
        <p:blipFill>
          <a:blip r:embed="rId2"/>
          <a:stretch/>
        </p:blipFill>
        <p:spPr>
          <a:xfrm>
            <a:off x="152280" y="851040"/>
            <a:ext cx="135756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68580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77933c"/>
                </a:solidFill>
                <a:latin typeface="Arial"/>
                <a:ea typeface="Arial"/>
              </a:rPr>
              <a:t>Rad sil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844560" y="1352520"/>
            <a:ext cx="733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ad je proporcionalan sili i putu na kojem sila djel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d je jednak umnošku iznosa sile i puta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jemu sila djel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2"/>
              <p:cNvSpPr txBox="1"/>
              <p:nvPr/>
            </p:nvSpPr>
            <p:spPr>
              <a:xfrm>
                <a:off x="914400" y="3200400"/>
                <a:ext cx="2933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u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3"/>
              <p:cNvSpPr txBox="1"/>
              <p:nvPr/>
            </p:nvSpPr>
            <p:spPr>
              <a:xfrm>
                <a:off x="4572000" y="3124080"/>
                <a:ext cx="220968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TextBox 4"/>
          <p:cNvSpPr/>
          <p:nvPr/>
        </p:nvSpPr>
        <p:spPr>
          <a:xfrm>
            <a:off x="483120" y="4800600"/>
            <a:ext cx="816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ko se tijelo ne giba dok sila djeluje, tada je p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 pa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avljeni rad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·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F · 0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34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Arial"/>
                <a:ea typeface="Arial"/>
              </a:rPr>
              <a:t>Mjerna j</a:t>
            </a:r>
            <a:r>
              <a:rPr b="0" lang="hr-HR" sz="3600" spc="-1" strike="noStrike">
                <a:solidFill>
                  <a:srgbClr val="77933c"/>
                </a:solidFill>
                <a:latin typeface="Arial"/>
                <a:ea typeface="Arial"/>
              </a:rPr>
              <a:t>edinica 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2"/>
              <p:cNvSpPr txBox="1"/>
              <p:nvPr/>
            </p:nvSpPr>
            <p:spPr>
              <a:xfrm>
                <a:off x="3143160" y="2071800"/>
                <a:ext cx="22860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2519280" y="3357720"/>
                <a:ext cx="367524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žu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jut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eta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TextBox 6"/>
          <p:cNvSpPr/>
          <p:nvPr/>
        </p:nvSpPr>
        <p:spPr>
          <a:xfrm>
            <a:off x="3286080" y="44290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J =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593280" y="5572080"/>
            <a:ext cx="45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dinica rada zove s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žul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(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103480" cy="7142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2"/>
          <p:cNvSpPr/>
          <p:nvPr/>
        </p:nvSpPr>
        <p:spPr>
          <a:xfrm>
            <a:off x="349200" y="1523880"/>
            <a:ext cx="8369280" cy="10990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rga dinamometrom vuče kolica djelujući silom od 1 N uzduž pu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d 1 m. Koliki rad pritom obavi na kolicim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3"/>
          <p:cNvSpPr/>
          <p:nvPr/>
        </p:nvSpPr>
        <p:spPr>
          <a:xfrm>
            <a:off x="4114800" y="2971800"/>
            <a:ext cx="441972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ješe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1 N;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1 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1 N · 1 m = 1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1 J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3017880" cy="1295640"/>
          </a:xfrm>
          <a:prstGeom prst="rect">
            <a:avLst/>
          </a:prstGeom>
          <a:ln w="0">
            <a:noFill/>
          </a:ln>
        </p:spPr>
      </p:pic>
      <p:pic>
        <p:nvPicPr>
          <p:cNvPr id="541" name="Slika 1" descr=""/>
          <p:cNvPicPr/>
          <p:nvPr/>
        </p:nvPicPr>
        <p:blipFill>
          <a:blip r:embed="rId2"/>
          <a:stretch/>
        </p:blipFill>
        <p:spPr>
          <a:xfrm>
            <a:off x="304920" y="965160"/>
            <a:ext cx="101592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1:32Z</dcterms:created>
  <dc:creator>Slavko</dc:creator>
  <dc:description/>
  <dc:language>en-US</dc:language>
  <cp:lastModifiedBy>Tomislav Dumančić</cp:lastModifiedBy>
  <dcterms:modified xsi:type="dcterms:W3CDTF">2019-09-17T08:57:17Z</dcterms:modified>
  <cp:revision>21</cp:revision>
  <dc:subject/>
  <dc:title>Slide 1</dc:title>
</cp:coreProperties>
</file>